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513-0D51-49AA-A6D4-7C3725F5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839A-A267-46B7-9ED8-5F03BE88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808D-E0A4-47FF-9E38-683922E1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51DF-23D1-499A-AEC1-594F223F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923F-DCAB-4AE5-A026-C4812546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29A8-C27E-480C-9DBA-C24F404F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641D-E1C0-4BAC-B434-7777B403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F85B-0739-4301-AC0E-2CD55B3B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7AF0-EB3A-49C6-9664-B9532C35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17AA-6CAF-42DA-B103-1B9DF1BE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9862-B5C2-44CC-9993-1B514D04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1E3-D4F3-4616-A84A-48C2DB00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C3AB-0995-4ABB-9A3C-0304FEA86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634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000000"/>
                </a:solidFill>
                <a:latin typeface="Arial"/>
              </a:rPr>
              <a:t>Операционна сист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 на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я се от вида на съхраняваната информация и програмата, в която е създад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800" y="1674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9640" y="2708280"/>
          <a:ext cx="7632720" cy="3674880"/>
        </p:xfrm>
        <a:graphic>
          <a:graphicData uri="http://schemas.openxmlformats.org/drawingml/2006/table">
            <a:tbl>
              <a:tblPr/>
              <a:tblGrid>
                <a:gridCol w="3818160"/>
                <a:gridCol w="3814560"/>
              </a:tblGrid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йлов форм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шир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стови докумен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x, doc, txt, rtf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лектронна табл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lsx, x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фични форма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pg, jpeg, bmp, gif, png, t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зент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ptx, ppt, p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е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i, mp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у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v, wma, mp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хи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ip, r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103"/>
          <p:cNvSpPr/>
          <p:nvPr/>
        </p:nvSpPr>
        <p:spPr>
          <a:xfrm>
            <a:off x="1800" y="477144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144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грама Windows Explor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35989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грама, с помощта на която се разглежда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файловата система, отделните папки и съдържанието 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4329000" y="1557360"/>
            <a:ext cx="4057920" cy="511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2"/>
          <a:stretch/>
        </p:blipFill>
        <p:spPr>
          <a:xfrm>
            <a:off x="1619280" y="5157720"/>
            <a:ext cx="638280" cy="762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грама Windows Explor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329080" cy="38466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10"/>
          <p:cNvSpPr/>
          <p:nvPr/>
        </p:nvSpPr>
        <p:spPr>
          <a:xfrm>
            <a:off x="468360" y="3062160"/>
            <a:ext cx="1332000" cy="337320"/>
          </a:xfrm>
          <a:prstGeom prst="wedgeRectCallout">
            <a:avLst>
              <a:gd name="adj1" fmla="val 72398"/>
              <a:gd name="adj2" fmla="val 1722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яв пане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3"/>
          <p:cNvSpPr/>
          <p:nvPr/>
        </p:nvSpPr>
        <p:spPr>
          <a:xfrm>
            <a:off x="7308720" y="3062160"/>
            <a:ext cx="1548000" cy="337320"/>
          </a:xfrm>
          <a:prstGeom prst="wedgeRectCallout">
            <a:avLst>
              <a:gd name="adj1" fmla="val -86708"/>
              <a:gd name="adj2" fmla="val 179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сен пане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468360" y="5654520"/>
            <a:ext cx="83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Ляв панел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ъдържа списък с имената на папките и устройствата на диск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466560" y="6086520"/>
            <a:ext cx="832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есен панел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ва съдържанието на обекта, който сме посочили вляво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9"/>
          <p:cNvSpPr/>
          <p:nvPr/>
        </p:nvSpPr>
        <p:spPr>
          <a:xfrm>
            <a:off x="7380360" y="1622520"/>
            <a:ext cx="1439640" cy="2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главен 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0"/>
          <p:cNvSpPr/>
          <p:nvPr/>
        </p:nvSpPr>
        <p:spPr>
          <a:xfrm>
            <a:off x="108000" y="1773360"/>
            <a:ext cx="1439640" cy="2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лавно мен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1"/>
          <p:cNvSpPr/>
          <p:nvPr/>
        </p:nvSpPr>
        <p:spPr>
          <a:xfrm>
            <a:off x="181080" y="2192400"/>
            <a:ext cx="1368360" cy="643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ента с инструмен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2"/>
          <p:cNvSpPr/>
          <p:nvPr/>
        </p:nvSpPr>
        <p:spPr>
          <a:xfrm flipV="1">
            <a:off x="1547640" y="2349000"/>
            <a:ext cx="287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3"/>
          <p:cNvSpPr/>
          <p:nvPr/>
        </p:nvSpPr>
        <p:spPr>
          <a:xfrm>
            <a:off x="1547640" y="1916280"/>
            <a:ext cx="287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4"/>
          <p:cNvSpPr/>
          <p:nvPr/>
        </p:nvSpPr>
        <p:spPr>
          <a:xfrm>
            <a:off x="7380360" y="17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5"/>
          <p:cNvSpPr/>
          <p:nvPr/>
        </p:nvSpPr>
        <p:spPr>
          <a:xfrm flipH="1">
            <a:off x="7164360" y="17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35280" y="1628640"/>
            <a:ext cx="532908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35280" y="1989000"/>
            <a:ext cx="5329080" cy="144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35280" y="2133720"/>
            <a:ext cx="5329080" cy="21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2349360"/>
            <a:ext cx="1224000" cy="273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9280" y="2349360"/>
            <a:ext cx="4105080" cy="273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144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Меню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4920" y="2565360"/>
            <a:ext cx="35989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Изгледи на обектите от десния пане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003640" y="1628640"/>
            <a:ext cx="3022920" cy="4713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Програм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Име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означава основна входно-изходна сис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Настройва и управлява хардуерните устройства в компютъ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Стартира операционната сис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Операционна система (ОС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4000" y="16398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Представлява набор от програми за управление на компютърната система и осъществяване на връзка с потребител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-известните операционни системи са: Microsoft DOS, Microsoft Windows, Linux, Mac O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Основни функции на 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Управление на изпълнението на приложните прог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Управление на работата на входно-изходните устр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Управление на работата на централния процесор и паметта на компютъ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Интерф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редств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необходими за обмен на информация както между различните устройства, така и между устройства и потребит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отребителски интерфейс – програмните сред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 помощта на които потребителят общува с компютърната систе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Видове потребителски интерфей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буквено-циф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графи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Буквено-цифров интерфей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мандите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е задава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ОС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а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оследователност от символи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ъведени от клавиатурата, завършващи с натискане на клавиша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8532720" cy="347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Графичен интерф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ждат 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ни изображения (икони, прозорци, менюта, бутони)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Имаме достъп до всички обекти на екр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Необходимите действия се осъществяват с помощта на мишката и клавиату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Файлова организация на даннит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Файл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ютър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ъ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пазва и обработва различни видове данни, оформени в документи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Всеки документ се съхранява във фай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ки файл има собствено име, което се състои от две ча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, което се задава от потреб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ширение, което показва какъв е вид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ъ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 съхраняваната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ример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ka.docx, sofia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1:44:41Z</dcterms:created>
  <dc:creator>gis2</dc:creator>
  <dc:description/>
  <dc:language>en-US</dc:language>
  <cp:lastModifiedBy>gis2</cp:lastModifiedBy>
  <dcterms:modified xsi:type="dcterms:W3CDTF">2014-07-01T10:55:01Z</dcterms:modified>
  <cp:revision>23</cp:revision>
  <dc:subject/>
  <dc:title>Операционна система</dc:title>
</cp:coreProperties>
</file>