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560-0D64-4FDA-A8C3-26A06FBF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784-3A8D-4948-8338-49F32004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110-2CA8-4274-BC41-3206E887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41C-D1F1-4E2B-BC7C-DB681BFF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923-D2E3-4C02-92E2-3A61108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D18-FA9B-4FB8-ADC6-0DE3826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D30-7487-4376-87C4-7ADDA139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491-2379-4D82-8BE9-E2FAED2E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40E-6B2F-49D3-90CE-C1723E31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2B4-D0C2-4F2F-882F-5E2AB03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B3F-1573-49CA-BC37-57F8D66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A27-0B2D-49FC-B49E-5B759EE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CEAF-F13C-4769-B777-DA6E7E664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пютърна тексто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0" y="1365120"/>
            <a:ext cx="383832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8360" y="1844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ир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2852640"/>
            <a:ext cx="165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3860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местване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77080" y="249228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ислови ку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716360" y="2349360"/>
            <a:ext cx="1079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627280" y="2133720"/>
            <a:ext cx="208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627280" y="2349360"/>
            <a:ext cx="20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627280" y="256536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908000" y="2133720"/>
            <a:ext cx="719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124000" y="2421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1908000" y="278100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 flipV="1">
            <a:off x="5795640" y="25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Употреба на малки и главни бук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2089080" cy="2047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635280" y="2205000"/>
            <a:ext cx="417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ляма буква в началото на изречени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635280" y="2781360"/>
            <a:ext cx="273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635280" y="3357720"/>
            <a:ext cx="259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635280" y="393372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главни букви, а останалите са с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635280" y="472608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малки букви, а останалите са с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556000" y="242100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2266560" y="2997360"/>
            <a:ext cx="136836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2340000" y="3573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H="1" flipV="1">
            <a:off x="3059280" y="4149720"/>
            <a:ext cx="57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411280" y="4508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текст на ниво абз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488360" cy="4084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4"/>
          <p:cNvSpPr/>
          <p:nvPr/>
        </p:nvSpPr>
        <p:spPr>
          <a:xfrm>
            <a:off x="2195640" y="3500280"/>
            <a:ext cx="5616360" cy="1441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79280" y="3970440"/>
            <a:ext cx="1152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1332000" y="4186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995640" y="1844640"/>
            <a:ext cx="1368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ктеристики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авняване (Alignment) –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азположение на абзаца спрямо наборното поле на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стъп (Indentation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стоянието от абзаца до лявата и дясната граница на страницат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тстъп на първи ред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дуредово разстояние (Line 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стояние между абзаци (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627280" y="2867040"/>
            <a:ext cx="3816360" cy="147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90000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43280" y="47973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00364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877080" y="3587760"/>
            <a:ext cx="180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549360" y="35877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бул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2190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ном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20500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и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627280" y="2997360"/>
            <a:ext cx="6494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76720" y="2997360"/>
            <a:ext cx="64908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2771640" y="3514680"/>
            <a:ext cx="158436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35600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00364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651640" y="3514680"/>
            <a:ext cx="64908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4500720" y="3011400"/>
            <a:ext cx="79200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2124000" y="2492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 flipV="1">
            <a:off x="2124000" y="32274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2195640" y="3730320"/>
            <a:ext cx="1296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4572000" y="37303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5"/>
          <p:cNvSpPr/>
          <p:nvPr/>
        </p:nvSpPr>
        <p:spPr>
          <a:xfrm flipH="1" flipV="1">
            <a:off x="5508360" y="3803760"/>
            <a:ext cx="142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6156360" y="37306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7"/>
          <p:cNvSpPr/>
          <p:nvPr/>
        </p:nvSpPr>
        <p:spPr>
          <a:xfrm flipH="1">
            <a:off x="4858920" y="2421000"/>
            <a:ext cx="201780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804000" y="4654440"/>
            <a:ext cx="21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6443280" y="43081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6013440" y="4019400"/>
            <a:ext cx="35892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1982520" y="12430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Paragraph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4840" cy="5143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1280" y="20034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11280" y="270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11280" y="4005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абза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11280" y="5229360"/>
            <a:ext cx="180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802560" y="42069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04000" y="2852640"/>
            <a:ext cx="136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611280" y="3357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2700360" y="2060640"/>
            <a:ext cx="187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2771640" y="2924280"/>
            <a:ext cx="144000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2771640" y="313992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4572000" y="2924280"/>
            <a:ext cx="172872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2700360" y="3789360"/>
            <a:ext cx="1511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4572000" y="4005360"/>
            <a:ext cx="17287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219564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2195640" y="285264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2195640" y="3284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4"/>
          <p:cNvSpPr/>
          <p:nvPr/>
        </p:nvSpPr>
        <p:spPr>
          <a:xfrm flipV="1">
            <a:off x="2195640" y="422064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2843280" y="5084640"/>
            <a:ext cx="345744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6"/>
          <p:cNvSpPr/>
          <p:nvPr/>
        </p:nvSpPr>
        <p:spPr>
          <a:xfrm>
            <a:off x="2411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630072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 flipV="1">
            <a:off x="6300720" y="42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1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яв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f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лявата граница на текстовото п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71640" y="342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яс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igh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дясната граница на текстовот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969840" y="2681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ира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nter)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ът е центри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969840" y="472104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стран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ify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текстът е двустранно подравнен, като между думите се появяват интервали с различна дъл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250920" y="1682640"/>
            <a:ext cx="647640" cy="5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2"/>
          <a:stretch/>
        </p:blipFill>
        <p:spPr>
          <a:xfrm>
            <a:off x="250920" y="2629080"/>
            <a:ext cx="604800" cy="58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0920" y="3611520"/>
            <a:ext cx="64440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4"/>
          <a:stretch/>
        </p:blipFill>
        <p:spPr>
          <a:xfrm>
            <a:off x="250920" y="4849920"/>
            <a:ext cx="6490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464680" cy="2339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орматиране на отстъ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11280" y="1916280"/>
            <a:ext cx="1655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867280" y="1927080"/>
            <a:ext cx="2089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843280" y="1916280"/>
            <a:ext cx="16574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332000" y="234936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1547640" y="2349360"/>
            <a:ext cx="503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97928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556000" y="263700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7380360" y="2349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93080" y="2349360"/>
            <a:ext cx="1429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40328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0509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781200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73087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2556000" y="3141720"/>
            <a:ext cx="0" cy="129528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Разстояние между абзаци и редо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6443640" y="2492280"/>
            <a:ext cx="915840" cy="1388880"/>
            <a:chOff x="6443640" y="2492280"/>
            <a:chExt cx="915840" cy="138888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6443640" y="2492280"/>
              <a:ext cx="22680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"/>
            <p:cNvPicPr/>
            <p:nvPr/>
          </p:nvPicPr>
          <p:blipFill>
            <a:blip r:embed="rId2"/>
            <a:stretch/>
          </p:blipFill>
          <p:spPr>
            <a:xfrm>
              <a:off x="6454800" y="2690640"/>
              <a:ext cx="90468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9" descr=""/>
          <p:cNvPicPr/>
          <p:nvPr/>
        </p:nvPicPr>
        <p:blipFill>
          <a:blip r:embed="rId3"/>
          <a:stretch/>
        </p:blipFill>
        <p:spPr>
          <a:xfrm>
            <a:off x="1927080" y="2997360"/>
            <a:ext cx="3581640" cy="961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971640" y="2276640"/>
            <a:ext cx="2160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и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042920" y="4437000"/>
            <a:ext cx="2160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5219640" y="4724280"/>
            <a:ext cx="21607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редово раз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908000" y="3213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908000" y="3429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3780000" y="3213000"/>
            <a:ext cx="1655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1979640" y="3645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2411280" y="270828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 flipV="1">
            <a:off x="5148360" y="3789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 flipV="1">
            <a:off x="6443640" y="3933720"/>
            <a:ext cx="289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1"/>
          <a:stretch/>
        </p:blipFill>
        <p:spPr>
          <a:xfrm>
            <a:off x="971640" y="2443320"/>
            <a:ext cx="7129440" cy="223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2637000"/>
            <a:ext cx="5761080" cy="28728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71640" y="2997360"/>
            <a:ext cx="4752720" cy="16556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96000" y="2997360"/>
            <a:ext cx="1008000" cy="1655640"/>
          </a:xfrm>
          <a:prstGeom prst="rect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77080" y="2997360"/>
            <a:ext cx="122400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253920" y="1844640"/>
            <a:ext cx="1695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ифров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54480" y="5357880"/>
            <a:ext cx="179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мво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78920" y="5357880"/>
            <a:ext cx="222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вигацион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3520" y="1846440"/>
            <a:ext cx="225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она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627280" y="2205000"/>
            <a:ext cx="216000" cy="43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2411280" y="4653000"/>
            <a:ext cx="289080" cy="72072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164360" y="2205000"/>
            <a:ext cx="2872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6300360" y="4653000"/>
            <a:ext cx="142920" cy="720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Поставяне на номер или бу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ркират се абзаците, пред които ще се поставят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900000" y="2379600"/>
            <a:ext cx="2924280" cy="3137040"/>
            <a:chOff x="900000" y="2379600"/>
            <a:chExt cx="2924280" cy="3137040"/>
          </a:xfrm>
        </p:grpSpPr>
        <p:pic>
          <p:nvPicPr>
            <p:cNvPr id="285" name="Picture 7" descr=""/>
            <p:cNvPicPr/>
            <p:nvPr/>
          </p:nvPicPr>
          <p:blipFill>
            <a:blip r:embed="rId1"/>
            <a:stretch/>
          </p:blipFill>
          <p:spPr>
            <a:xfrm>
              <a:off x="900000" y="2592000"/>
              <a:ext cx="2924280" cy="29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"/>
            <p:cNvPicPr/>
            <p:nvPr/>
          </p:nvPicPr>
          <p:blipFill>
            <a:blip r:embed="rId2"/>
            <a:stretch/>
          </p:blipFill>
          <p:spPr>
            <a:xfrm>
              <a:off x="900000" y="2379600"/>
              <a:ext cx="3618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Rectangle 9"/>
          <p:cNvSpPr/>
          <p:nvPr/>
        </p:nvSpPr>
        <p:spPr>
          <a:xfrm>
            <a:off x="1405800" y="5789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5508720" y="2389320"/>
            <a:ext cx="2581200" cy="3046320"/>
            <a:chOff x="5508720" y="2389320"/>
            <a:chExt cx="2581200" cy="3046320"/>
          </a:xfrm>
        </p:grpSpPr>
        <p:pic>
          <p:nvPicPr>
            <p:cNvPr id="289" name="Picture 10" descr=""/>
            <p:cNvPicPr/>
            <p:nvPr/>
          </p:nvPicPr>
          <p:blipFill>
            <a:blip r:embed="rId3"/>
            <a:stretch/>
          </p:blipFill>
          <p:spPr>
            <a:xfrm>
              <a:off x="5508720" y="2663640"/>
              <a:ext cx="258120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1" descr=""/>
            <p:cNvPicPr/>
            <p:nvPr/>
          </p:nvPicPr>
          <p:blipFill>
            <a:blip r:embed="rId4"/>
            <a:stretch/>
          </p:blipFill>
          <p:spPr>
            <a:xfrm>
              <a:off x="5508720" y="2389320"/>
              <a:ext cx="361800" cy="24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12"/>
          <p:cNvSpPr/>
          <p:nvPr/>
        </p:nvSpPr>
        <p:spPr>
          <a:xfrm>
            <a:off x="5727960" y="57895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ом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ставяне на ра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395280" y="2133720"/>
            <a:ext cx="1762200" cy="3730680"/>
            <a:chOff x="395280" y="2133720"/>
            <a:chExt cx="1762200" cy="3730680"/>
          </a:xfrm>
        </p:grpSpPr>
        <p:pic>
          <p:nvPicPr>
            <p:cNvPr id="294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1762200" cy="35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2133720"/>
              <a:ext cx="32364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6"/>
          <p:cNvSpPr/>
          <p:nvPr/>
        </p:nvSpPr>
        <p:spPr>
          <a:xfrm>
            <a:off x="209520" y="106380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дащо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3"/>
          <a:stretch/>
        </p:blipFill>
        <p:spPr>
          <a:xfrm>
            <a:off x="3995640" y="2227320"/>
            <a:ext cx="4537080" cy="3490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4802040" y="1093680"/>
            <a:ext cx="35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2843280" y="4307040"/>
            <a:ext cx="100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843280" y="30830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643280" y="594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658800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067280" y="2708280"/>
            <a:ext cx="865080" cy="266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932360" y="2708280"/>
            <a:ext cx="136836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4932360" y="4076640"/>
            <a:ext cx="136836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4932360" y="4437000"/>
            <a:ext cx="136836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3851280" y="2852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3851280" y="443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 flipH="1" flipV="1">
            <a:off x="5363640" y="4220640"/>
            <a:ext cx="7164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5579640" y="458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395280" y="5661000"/>
            <a:ext cx="1655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19345800">
            <a:off x="2771640" y="5373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ъкване и форматиране на графични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б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491120" y="17733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Illustrations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987640" y="2600280"/>
            <a:ext cx="3168720" cy="15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826920" y="357336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16360" y="4653000"/>
            <a:ext cx="187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блиотеката на M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364000" y="46530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фична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948360" y="3573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диа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2411280" y="364500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3348000" y="378900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H="1" flipV="1">
            <a:off x="5148000" y="364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 flipH="1" flipV="1">
            <a:off x="6011640" y="335772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411280" y="1752480"/>
            <a:ext cx="5720040" cy="3975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79280" y="3716280"/>
            <a:ext cx="1944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ясто, където се намира файлъ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547640" y="603576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012000" y="602136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вмъкван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911240" y="110952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орец Inser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484360" y="3357720"/>
            <a:ext cx="165600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564000" y="5013360"/>
            <a:ext cx="187164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6084720" y="5300640"/>
            <a:ext cx="10065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 flipV="1">
            <a:off x="2411280" y="5300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212400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 flipH="1" flipV="1">
            <a:off x="665928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nodeType="clickEffect" fill="hold">
                      <p:stCondLst>
                        <p:cond delay="0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036880" cy="5013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900000" y="2060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лючова дума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00000" y="321300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ипове файлове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867280" y="2349360"/>
            <a:ext cx="1873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тър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o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5867280" y="3789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ерени резул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V="1">
            <a:off x="2484360" y="198864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71640" y="2349000"/>
            <a:ext cx="6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 flipV="1">
            <a:off x="5148000" y="2060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 flipH="1">
            <a:off x="5003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графич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042920" y="1413000"/>
            <a:ext cx="1843200" cy="4814640"/>
            <a:chOff x="1042920" y="1413000"/>
            <a:chExt cx="1843200" cy="4814640"/>
          </a:xfrm>
        </p:grpSpPr>
        <p:pic>
          <p:nvPicPr>
            <p:cNvPr id="350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915920"/>
              <a:ext cx="1843200" cy="43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"/>
            <p:cNvPicPr/>
            <p:nvPr/>
          </p:nvPicPr>
          <p:blipFill>
            <a:blip r:embed="rId2"/>
            <a:stretch/>
          </p:blipFill>
          <p:spPr>
            <a:xfrm>
              <a:off x="1114200" y="1413000"/>
              <a:ext cx="334800" cy="51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"/>
          <p:cNvGrpSpPr/>
          <p:nvPr/>
        </p:nvGrpSpPr>
        <p:grpSpPr>
          <a:xfrm>
            <a:off x="4211640" y="2185920"/>
            <a:ext cx="4329000" cy="3294000"/>
            <a:chOff x="4211640" y="2185920"/>
            <a:chExt cx="4329000" cy="3294000"/>
          </a:xfrm>
        </p:grpSpPr>
        <p:pic>
          <p:nvPicPr>
            <p:cNvPr id="353" name="Picture 8" descr=""/>
            <p:cNvPicPr/>
            <p:nvPr/>
          </p:nvPicPr>
          <p:blipFill>
            <a:blip r:embed="rId3"/>
            <a:stretch/>
          </p:blipFill>
          <p:spPr>
            <a:xfrm>
              <a:off x="4211640" y="2636640"/>
              <a:ext cx="43290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9" descr=""/>
            <p:cNvPicPr/>
            <p:nvPr/>
          </p:nvPicPr>
          <p:blipFill>
            <a:blip r:embed="rId4"/>
            <a:stretch/>
          </p:blipFill>
          <p:spPr>
            <a:xfrm>
              <a:off x="4211640" y="218592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10"/>
          <p:cNvSpPr/>
          <p:nvPr/>
        </p:nvSpPr>
        <p:spPr>
          <a:xfrm>
            <a:off x="4788000" y="55728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мъкване на художествен надп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ършва с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утона WordArt от панела Tex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"/>
          <p:cNvGrpSpPr/>
          <p:nvPr/>
        </p:nvGrpSpPr>
        <p:grpSpPr>
          <a:xfrm>
            <a:off x="1547640" y="2637000"/>
            <a:ext cx="2838600" cy="3881160"/>
            <a:chOff x="1547640" y="2637000"/>
            <a:chExt cx="2838600" cy="3881160"/>
          </a:xfrm>
        </p:grpSpPr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1547640" y="3213000"/>
              <a:ext cx="2838600" cy="33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"/>
            <p:cNvPicPr/>
            <p:nvPr/>
          </p:nvPicPr>
          <p:blipFill>
            <a:blip r:embed="rId2"/>
            <a:stretch/>
          </p:blipFill>
          <p:spPr>
            <a:xfrm>
              <a:off x="1547640" y="2637000"/>
              <a:ext cx="50472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4816440" y="3151080"/>
            <a:ext cx="3925800" cy="987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4816440" y="4091040"/>
            <a:ext cx="3973680" cy="90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4705200" y="4932360"/>
            <a:ext cx="41943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6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07160" cy="1076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136320" y="150480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258920" y="2421000"/>
            <a:ext cx="20890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348000" y="2421000"/>
            <a:ext cx="936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84720" y="2421000"/>
            <a:ext cx="2303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588000" y="2421000"/>
            <a:ext cx="136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68360" y="3933720"/>
            <a:ext cx="165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яркост и контра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332000" y="4986360"/>
            <a:ext cx="16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цв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700360" y="3933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ртистични еф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924360" y="49878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ил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427640" y="39337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мка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5869080" y="47023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зиция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740720" y="4941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332000" y="256500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 flipV="1">
            <a:off x="2268360" y="2781000"/>
            <a:ext cx="142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H="1" flipV="1">
            <a:off x="2771280" y="2997000"/>
            <a:ext cx="505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 flipV="1">
            <a:off x="3779640" y="2852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H="1" flipV="1">
            <a:off x="4140360" y="2637000"/>
            <a:ext cx="8632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 flipV="1">
            <a:off x="4716360" y="2852280"/>
            <a:ext cx="1727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H="1" flipV="1">
            <a:off x="7667640" y="2997000"/>
            <a:ext cx="64944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6372360" y="3933720"/>
            <a:ext cx="1439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рязване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8"/>
          <p:cNvSpPr/>
          <p:nvPr/>
        </p:nvSpPr>
        <p:spPr>
          <a:xfrm flipH="1" flipV="1">
            <a:off x="6877080" y="2997000"/>
            <a:ext cx="21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варя се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она-стрелк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пане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оменяме мястото на изображението спрям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2556000" y="2235240"/>
            <a:ext cx="4400280" cy="436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684360" y="2565360"/>
            <a:ext cx="143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дна ли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79280" y="3573360"/>
            <a:ext cx="2160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кол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7056360" y="2852640"/>
            <a:ext cx="197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тдолу и отг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7129440" y="3933720"/>
            <a:ext cx="154620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250920" y="4508640"/>
            <a:ext cx="212400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468360" y="5445000"/>
            <a:ext cx="165564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равнява изображението спрям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7164360" y="5373720"/>
            <a:ext cx="1944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ва раз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 flipV="1">
            <a:off x="2340000" y="357336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2124000" y="2781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 flipV="1">
            <a:off x="2411280" y="4076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2124000" y="4653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 flipH="1">
            <a:off x="6588000" y="314172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 flipH="1" flipV="1">
            <a:off x="4211640" y="3933360"/>
            <a:ext cx="2881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 flipH="1" flipV="1">
            <a:off x="5940360" y="53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2700360" y="4508640"/>
            <a:ext cx="39592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2700360" y="4870440"/>
            <a:ext cx="395928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76360" y="1766880"/>
            <a:ext cx="7559640" cy="5010120"/>
            <a:chOff x="1476360" y="1766880"/>
            <a:chExt cx="7559640" cy="501012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1476360" y="1766880"/>
              <a:ext cx="755964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4"/>
            <p:cNvSpPr/>
            <p:nvPr/>
          </p:nvSpPr>
          <p:spPr>
            <a:xfrm>
              <a:off x="5003640" y="1844640"/>
              <a:ext cx="1873440" cy="144360"/>
            </a:xfrm>
            <a:prstGeom prst="rect">
              <a:avLst/>
            </a:prstGeom>
            <a:solidFill>
              <a:srgbClr val="c2d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1558080"/>
            <a:ext cx="1152360" cy="520920"/>
          </a:xfrm>
          <a:prstGeom prst="wedgeRoundRectCallout">
            <a:avLst>
              <a:gd name="adj1" fmla="val 82351"/>
              <a:gd name="adj2" fmla="val 897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79280" y="2493000"/>
            <a:ext cx="1046160" cy="520920"/>
          </a:xfrm>
          <a:prstGeom prst="wedgeRoundRectCallout">
            <a:avLst>
              <a:gd name="adj1" fmla="val 79407"/>
              <a:gd name="adj2" fmla="val -127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79280" y="3574080"/>
            <a:ext cx="1513080" cy="520920"/>
          </a:xfrm>
          <a:prstGeom prst="wedgeRoundRectCallout">
            <a:avLst>
              <a:gd name="adj1" fmla="val 82824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4572000" y="4581360"/>
            <a:ext cx="180036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но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79280" y="5446080"/>
            <a:ext cx="1584360" cy="731160"/>
          </a:xfrm>
          <a:prstGeom prst="wedgeRoundRectCallout">
            <a:avLst>
              <a:gd name="adj1" fmla="val 35550"/>
              <a:gd name="adj2" fmla="val 1162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състояние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7308720" y="4328280"/>
            <a:ext cx="1150920" cy="311400"/>
          </a:xfrm>
          <a:prstGeom prst="wedgeRoundRectCallout">
            <a:avLst>
              <a:gd name="adj1" fmla="val 87773"/>
              <a:gd name="adj2" fmla="val -237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ъз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2054160" y="4005360"/>
            <a:ext cx="1797120" cy="64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азмерителни ли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3059280" y="3141360"/>
            <a:ext cx="36036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1618920" y="4581360"/>
            <a:ext cx="4316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3440" y="935640"/>
            <a:ext cx="77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/All Programs/Microsoft Office/Microsoft Word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1476360" y="1989000"/>
            <a:ext cx="75614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476360" y="2205000"/>
            <a:ext cx="756144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474920" y="6526080"/>
            <a:ext cx="7561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7020000" y="5806080"/>
            <a:ext cx="1512720" cy="520920"/>
          </a:xfrm>
          <a:prstGeom prst="wedgeRoundRectCallout">
            <a:avLst>
              <a:gd name="adj1" fmla="val 75263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превърт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476360" y="1773360"/>
            <a:ext cx="756144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раница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ечатване на текстов док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0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975600" y="174240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Setup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3756240" cy="10335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61128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отстъ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00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716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работен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732720" y="4653000"/>
            <a:ext cx="21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1403280" y="3573000"/>
            <a:ext cx="1297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 flipV="1">
            <a:off x="349236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 flipH="1" flipV="1">
            <a:off x="4284360" y="3500280"/>
            <a:ext cx="1150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 flipH="1" flipV="1">
            <a:off x="6156000" y="378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0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Page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6836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4484520" cy="54403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8"/>
          <p:cNvSpPr/>
          <p:nvPr/>
        </p:nvSpPr>
        <p:spPr>
          <a:xfrm flipH="1">
            <a:off x="1042200" y="1560600"/>
            <a:ext cx="1514520" cy="430560"/>
          </a:xfrm>
          <a:prstGeom prst="wedgeRoundRectCallout">
            <a:avLst>
              <a:gd name="adj1" fmla="val -117083"/>
              <a:gd name="adj2" fmla="val 50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2411280" y="26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8028000" y="198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956720" y="2492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 flipH="1">
            <a:off x="1042200" y="3429000"/>
            <a:ext cx="1833480" cy="430560"/>
          </a:xfrm>
          <a:prstGeom prst="wedgeRoundRectCallout">
            <a:avLst>
              <a:gd name="adj1" fmla="val -88787"/>
              <a:gd name="adj2" fmla="val -121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3"/>
          <p:cNvSpPr/>
          <p:nvPr/>
        </p:nvSpPr>
        <p:spPr>
          <a:xfrm flipH="1">
            <a:off x="1116000" y="4437000"/>
            <a:ext cx="1441440" cy="759960"/>
          </a:xfrm>
          <a:prstGeom prst="wedgeRoundRectCallout">
            <a:avLst>
              <a:gd name="adj1" fmla="val -151518"/>
              <a:gd name="adj2" fmla="val 55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53640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536400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5580000" y="5300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цял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5580000" y="5805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ед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8"/>
          <p:cNvSpPr/>
          <p:nvPr/>
        </p:nvSpPr>
        <p:spPr>
          <a:xfrm flipH="1">
            <a:off x="683640" y="5661000"/>
            <a:ext cx="1803240" cy="1089360"/>
          </a:xfrm>
          <a:prstGeom prst="wedgeRoundRectCallout">
            <a:avLst>
              <a:gd name="adj1" fmla="val -114606"/>
              <a:gd name="adj2" fmla="val -6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3492360" y="1773360"/>
            <a:ext cx="43196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3492360" y="2781360"/>
            <a:ext cx="1727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3492360" y="4437000"/>
            <a:ext cx="151128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3492360" y="5850000"/>
            <a:ext cx="1871640" cy="74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3"/>
          <p:cNvSpPr/>
          <p:nvPr/>
        </p:nvSpPr>
        <p:spPr>
          <a:xfrm flipV="1">
            <a:off x="3059280" y="2133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3059280" y="2349360"/>
            <a:ext cx="144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7308360" y="2133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 flipH="1" flipV="1">
            <a:off x="7308720" y="234900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 flipH="1">
            <a:off x="5076360" y="551664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 flipH="1">
            <a:off x="5148360" y="6021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4284720" y="306864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 flipH="1" flipV="1">
            <a:off x="4932360" y="3429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3040" y="1557360"/>
            <a:ext cx="83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Background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727280" cy="9572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25092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12400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810320" y="24210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дащо мен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0"/>
          <p:cNvSpPr/>
          <p:nvPr/>
        </p:nvSpPr>
        <p:spPr>
          <a:xfrm flipV="1">
            <a:off x="971640" y="3357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1"/>
          <p:cNvSpPr/>
          <p:nvPr/>
        </p:nvSpPr>
        <p:spPr>
          <a:xfrm flipH="1" flipV="1">
            <a:off x="2484000" y="34999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6012000" y="2997360"/>
            <a:ext cx="1657080" cy="2724120"/>
            <a:chOff x="6012000" y="2997360"/>
            <a:chExt cx="1657080" cy="272412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6012000" y="3645000"/>
              <a:ext cx="165708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3" descr=""/>
            <p:cNvPicPr/>
            <p:nvPr/>
          </p:nvPicPr>
          <p:blipFill>
            <a:blip r:embed="rId3"/>
            <a:stretch/>
          </p:blipFill>
          <p:spPr>
            <a:xfrm>
              <a:off x="6012000" y="2997360"/>
              <a:ext cx="4474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AutoShape 14"/>
          <p:cNvSpPr/>
          <p:nvPr/>
        </p:nvSpPr>
        <p:spPr>
          <a:xfrm>
            <a:off x="3780000" y="31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nodeType="clickEffect" fill="hold">
                      <p:stCondLst>
                        <p:cond delay="0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2122560" y="206064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250920" y="4005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177840" y="2795760"/>
            <a:ext cx="172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50920" y="5229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84328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611280" y="13255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71636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удожествен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7308720" y="4941720"/>
            <a:ext cx="16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7308720" y="2932200"/>
            <a:ext cx="1689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изгл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2193840" y="2565360"/>
            <a:ext cx="1008000" cy="295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3203640" y="2565360"/>
            <a:ext cx="1512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3203640" y="4076640"/>
            <a:ext cx="151272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3203640" y="450864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3203640" y="501336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716360" y="2565360"/>
            <a:ext cx="2303640" cy="22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4716360" y="4797360"/>
            <a:ext cx="23036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906560" y="2997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V="1">
            <a:off x="1833480" y="386028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835280" y="4365720"/>
            <a:ext cx="14414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V="1">
            <a:off x="378000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 flipV="1">
            <a:off x="4355640" y="5229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8"/>
          <p:cNvSpPr/>
          <p:nvPr/>
        </p:nvSpPr>
        <p:spPr>
          <a:xfrm flipH="1" flipV="1">
            <a:off x="6372000" y="501336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9"/>
          <p:cNvSpPr/>
          <p:nvPr/>
        </p:nvSpPr>
        <p:spPr>
          <a:xfrm flipH="1">
            <a:off x="6588000" y="3213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nodeType="clickEffect" fill="hold">
                      <p:stCondLst>
                        <p:cond delay="0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мериране 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468360" y="2760840"/>
            <a:ext cx="1871640" cy="1066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755640" y="155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Header&amp;Footer от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395280" y="436572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иране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3276720" y="2492280"/>
            <a:ext cx="2016000" cy="2335320"/>
            <a:chOff x="3276720" y="2492280"/>
            <a:chExt cx="2016000" cy="2335320"/>
          </a:xfrm>
        </p:grpSpPr>
        <p:pic>
          <p:nvPicPr>
            <p:cNvPr id="486" name="Picture 8" descr=""/>
            <p:cNvPicPr/>
            <p:nvPr/>
          </p:nvPicPr>
          <p:blipFill>
            <a:blip r:embed="rId2"/>
            <a:stretch/>
          </p:blipFill>
          <p:spPr>
            <a:xfrm>
              <a:off x="3276720" y="3284640"/>
              <a:ext cx="20160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"/>
            <p:cNvPicPr/>
            <p:nvPr/>
          </p:nvPicPr>
          <p:blipFill>
            <a:blip r:embed="rId3"/>
            <a:stretch/>
          </p:blipFill>
          <p:spPr>
            <a:xfrm>
              <a:off x="3276720" y="2492280"/>
              <a:ext cx="6080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Line 10"/>
          <p:cNvSpPr/>
          <p:nvPr/>
        </p:nvSpPr>
        <p:spPr>
          <a:xfrm flipV="1">
            <a:off x="1332000" y="3573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195640" y="5229360"/>
            <a:ext cx="172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140360" y="5229360"/>
            <a:ext cx="158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372360" y="5300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иране на ном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4"/>
          <a:stretch/>
        </p:blipFill>
        <p:spPr>
          <a:xfrm>
            <a:off x="6300720" y="2276640"/>
            <a:ext cx="2448000" cy="2628720"/>
          </a:xfrm>
          <a:prstGeom prst="rect">
            <a:avLst/>
          </a:prstGeom>
          <a:ln w="0">
            <a:noFill/>
          </a:ln>
        </p:spPr>
      </p:pic>
      <p:sp>
        <p:nvSpPr>
          <p:cNvPr id="493" name="Line 15"/>
          <p:cNvSpPr/>
          <p:nvPr/>
        </p:nvSpPr>
        <p:spPr>
          <a:xfrm flipV="1">
            <a:off x="2268360" y="342864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 flipH="1" flipV="1">
            <a:off x="4571640" y="364464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 flipH="1" flipV="1">
            <a:off x="5076720" y="4436640"/>
            <a:ext cx="172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5435640" y="357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0"/>
          <p:cNvSpPr/>
          <p:nvPr/>
        </p:nvSpPr>
        <p:spPr>
          <a:xfrm>
            <a:off x="2484360" y="31417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0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печатване на док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11400" y="1413000"/>
            <a:ext cx="4521240" cy="5300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3062160" y="8359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нда File/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7020000" y="1989000"/>
            <a:ext cx="144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к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50920" y="198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отпеча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7020000" y="3860640"/>
            <a:ext cx="1727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250920" y="386064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а на стра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020000" y="277956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тройки на прин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7020000" y="486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250920" y="515628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 на работния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7020000" y="5732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мер на белите пол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1692360" y="2131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6"/>
          <p:cNvSpPr/>
          <p:nvPr/>
        </p:nvSpPr>
        <p:spPr>
          <a:xfrm flipH="1">
            <a:off x="5003280" y="21319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 flipH="1">
            <a:off x="6372000" y="2997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8"/>
          <p:cNvSpPr/>
          <p:nvPr/>
        </p:nvSpPr>
        <p:spPr>
          <a:xfrm>
            <a:off x="1692360" y="414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9"/>
          <p:cNvSpPr/>
          <p:nvPr/>
        </p:nvSpPr>
        <p:spPr>
          <a:xfrm>
            <a:off x="1835280" y="5445000"/>
            <a:ext cx="1873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 flipH="1" flipV="1">
            <a:off x="4500720" y="3932280"/>
            <a:ext cx="25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"/>
          <p:cNvSpPr/>
          <p:nvPr/>
        </p:nvSpPr>
        <p:spPr>
          <a:xfrm flipH="1">
            <a:off x="4788000" y="5156280"/>
            <a:ext cx="22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5219280" y="602136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nodeType="clickEffect" fill="hold">
                      <p:stCondLst>
                        <p:cond delay="0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nodeType="clickEffect" fill="hold">
                      <p:stCondLst>
                        <p:cond delay="0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913040" y="155196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Editing от страница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405080" y="2708280"/>
            <a:ext cx="12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403280" y="364500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зам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403280" y="4724280"/>
            <a:ext cx="151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сел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"/>
          <p:cNvPicPr/>
          <p:nvPr/>
        </p:nvPicPr>
        <p:blipFill>
          <a:blip r:embed="rId1"/>
          <a:stretch/>
        </p:blipFill>
        <p:spPr>
          <a:xfrm>
            <a:off x="3708360" y="3068640"/>
            <a:ext cx="1216080" cy="1449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019240" cy="1185840"/>
          </a:xfrm>
          <a:prstGeom prst="rect">
            <a:avLst/>
          </a:prstGeom>
          <a:ln w="0">
            <a:noFill/>
          </a:ln>
        </p:spPr>
      </p:pic>
      <p:sp>
        <p:nvSpPr>
          <p:cNvPr id="526" name="Line 13"/>
          <p:cNvSpPr/>
          <p:nvPr/>
        </p:nvSpPr>
        <p:spPr>
          <a:xfrm>
            <a:off x="2700360" y="29973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2700360" y="3645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2916360" y="4076640"/>
            <a:ext cx="93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88000" y="472428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ширени настройки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 flipH="1" flipV="1">
            <a:off x="6372000" y="378900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7" descr=""/>
          <p:cNvPicPr/>
          <p:nvPr/>
        </p:nvPicPr>
        <p:blipFill>
          <a:blip r:embed="rId1"/>
          <a:stretch/>
        </p:blipFill>
        <p:spPr>
          <a:xfrm>
            <a:off x="1928880" y="2060640"/>
            <a:ext cx="5286240" cy="4419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314000" y="134064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39640" y="285264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308720" y="414972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8360" y="3846600"/>
            <a:ext cx="1150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ока н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30872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1619280" y="414972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1619280" y="270828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 flipH="1" flipV="1">
            <a:off x="6012000" y="4005360"/>
            <a:ext cx="129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H="1" flipV="1">
            <a:off x="3924000" y="5229000"/>
            <a:ext cx="33843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-108000" y="458136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лика между малки и големи бук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-108000" y="51577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ърсене на цели д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1908000" y="450828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1908000" y="472392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nodeType="clickEffect" fill="hold">
                      <p:stCondLst>
                        <p:cond delay="0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и елементи на текстов док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буква, цифра, препинателен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следователност от знаци, между които няма интер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ност от думи и препинателни знаци,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ъс знак за край на 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зац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ица от изречения, започ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нов ред и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атискането на клавиша Enter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482120" y="126828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05320" cy="4400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179280" y="249228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328464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естващ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7308720" y="292428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79280" y="4869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79280" y="407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една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093080" y="4076640"/>
            <a:ext cx="19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всички намерени ду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>
            <a:off x="1258920" y="2781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1476360" y="342900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1403280" y="3933720"/>
            <a:ext cx="252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 flipV="1">
            <a:off x="5003640" y="4005360"/>
            <a:ext cx="2089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5867280" y="3284640"/>
            <a:ext cx="14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1763640" y="5013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0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иране на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60" y="3213000"/>
            <a:ext cx="40384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пир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ряз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мък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396108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687320" cy="1996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439960" y="301788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цес, който променя външния вид на симво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638520" y="2492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56000" y="3208320"/>
            <a:ext cx="3960720" cy="1252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1280" y="3630600"/>
            <a:ext cx="129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34000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164360" y="3630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92436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ов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508720" y="486900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лож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627280" y="3357720"/>
            <a:ext cx="1440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067280" y="3357720"/>
            <a:ext cx="6490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627280" y="3789360"/>
            <a:ext cx="1224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40360" y="3789360"/>
            <a:ext cx="5032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5435640" y="3789360"/>
            <a:ext cx="50472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5003640" y="3789360"/>
            <a:ext cx="432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190800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1979640" y="407628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348000" y="3645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4859280" y="4076280"/>
            <a:ext cx="2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H="1" flipV="1">
            <a:off x="5724360" y="4076280"/>
            <a:ext cx="719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6443640" y="39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164360" y="486900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 flipV="1">
            <a:off x="6516360" y="4437000"/>
            <a:ext cx="1150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227640" y="4221000"/>
            <a:ext cx="2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nt) –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чертаване на зна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 (Size)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мерва се в единици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речени пунк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ty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1762200" cy="196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265960" y="1700280"/>
            <a:ext cx="409680" cy="290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1297080" cy="28584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 flipV="1">
            <a:off x="5292720" y="494172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6443640" y="50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 flipV="1">
            <a:off x="6877080" y="501336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42764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дебеле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919120" y="551664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Накло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tal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250040" y="5516640"/>
            <a:ext cx="120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одчер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Under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504000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(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Style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284640"/>
            <a:ext cx="339552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Цвя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Col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5800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71640" y="3819600"/>
            <a:ext cx="1901880" cy="292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4284720" y="3284640"/>
            <a:ext cx="41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фек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ff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24177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728800" y="1341360"/>
            <a:ext cx="3943440" cy="4962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11280" y="161460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1280" y="25495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093080" y="19162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1280" y="34862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020000" y="2954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20000" y="4178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11280" y="43657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уп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11280" y="53006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7093080" y="551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987640" y="2133720"/>
            <a:ext cx="2016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003640" y="2133720"/>
            <a:ext cx="79236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796000" y="2133720"/>
            <a:ext cx="720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298764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4211640" y="3284640"/>
            <a:ext cx="1081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529272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2843280" y="3645000"/>
            <a:ext cx="3744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2843280" y="4869000"/>
            <a:ext cx="3744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3708360" y="5950080"/>
            <a:ext cx="93492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1619280" y="191628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619280" y="2781360"/>
            <a:ext cx="352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1619280" y="342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 flipV="1">
            <a:off x="1619280" y="4221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1619280" y="52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6300360" y="22050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5148000" y="3213000"/>
            <a:ext cx="18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 flipH="1" flipV="1">
            <a:off x="6372000" y="3500280"/>
            <a:ext cx="647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 flipH="1">
            <a:off x="4642920" y="5805360"/>
            <a:ext cx="2449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25:41Z</dcterms:created>
  <dc:creator>gis2</dc:creator>
  <dc:description/>
  <dc:language>en-US</dc:language>
  <cp:lastModifiedBy>Людмил К. Бонев</cp:lastModifiedBy>
  <dcterms:modified xsi:type="dcterms:W3CDTF">2024-01-31T09:11:33Z</dcterms:modified>
  <cp:revision>97</cp:revision>
  <dc:subject/>
  <dc:title>Slide 1</dc:title>
</cp:coreProperties>
</file>