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39846-6255-4B29-9BF4-CE50AEE7E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B66D6-50E4-478D-9676-0FA81E12E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B042F-9DAC-4550-B3A2-1403A46C8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DE0EA-8B50-47E7-82A1-33A55D039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719B2-7A00-470B-B1CC-ECED3F673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CE8DE-7959-4CA7-BDBA-E061FE887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A0BF6-9F8D-462B-9A28-198717E84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C5737-8719-4E98-BCF5-E5CEA3359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5FFDC-7EBE-4E42-9CC7-87A75888A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AA77B-6D2C-44FE-8353-62D03A991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2F337-30CE-4190-A646-EE4A1BE3A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1439D-4851-4281-BC4E-068E21B9D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e1e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2477A-3A5B-4D27-915B-E7807374AF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e1e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6348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800" spc="-1" strike="noStrike">
                <a:solidFill>
                  <a:srgbClr val="000000"/>
                </a:solidFill>
                <a:latin typeface="Arial"/>
              </a:rPr>
              <a:t>Операционна систем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e1e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Формат на файл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964720" cy="13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пределя се от вида на съхраняваната информация и програмата, в която е създаде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4"/>
          <p:cNvSpPr/>
          <p:nvPr/>
        </p:nvSpPr>
        <p:spPr>
          <a:xfrm>
            <a:off x="1800" y="167436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539640" y="2708280"/>
          <a:ext cx="7632720" cy="3674880"/>
        </p:xfrm>
        <a:graphic>
          <a:graphicData uri="http://schemas.openxmlformats.org/drawingml/2006/table">
            <a:tbl>
              <a:tblPr/>
              <a:tblGrid>
                <a:gridCol w="3818160"/>
                <a:gridCol w="3814560"/>
              </a:tblGrid>
              <a:tr h="571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айлов форма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шир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екстови докумен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cx, doc, txt, rtf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2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лектронна таблиц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lsx, xl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рафични форма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pg, jpeg, bmp, gif, png, tif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2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зентац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ptx, ppt, pp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2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е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vi, mpe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ву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av, wma, mp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2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рхи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ip, r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2" name="Rectangle 103"/>
          <p:cNvSpPr/>
          <p:nvPr/>
        </p:nvSpPr>
        <p:spPr>
          <a:xfrm>
            <a:off x="1800" y="4771440"/>
            <a:ext cx="18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4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e1e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11280" y="14436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рограма Windows Explor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94920" y="1844640"/>
            <a:ext cx="359892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ограма, с помощта на която се разглежда</a:t>
            </a: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файловата система, отделните папки и съдържанието и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5" descr=""/>
          <p:cNvPicPr/>
          <p:nvPr/>
        </p:nvPicPr>
        <p:blipFill>
          <a:blip r:embed="rId1"/>
          <a:stretch/>
        </p:blipFill>
        <p:spPr>
          <a:xfrm>
            <a:off x="4329000" y="1557360"/>
            <a:ext cx="4057920" cy="51116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"/>
          <p:cNvPicPr/>
          <p:nvPr/>
        </p:nvPicPr>
        <p:blipFill>
          <a:blip r:embed="rId2"/>
          <a:stretch/>
        </p:blipFill>
        <p:spPr>
          <a:xfrm>
            <a:off x="1619280" y="5157720"/>
            <a:ext cx="638280" cy="7621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1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2000"/>
                            </p:stCondLst>
                            <p:childTnLst>
                              <p:par>
                                <p:cTn id="203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05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2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e1e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рограма Windows Explor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6" descr=""/>
          <p:cNvPicPr/>
          <p:nvPr/>
        </p:nvPicPr>
        <p:blipFill>
          <a:blip r:embed="rId1"/>
          <a:stretch/>
        </p:blipFill>
        <p:spPr>
          <a:xfrm>
            <a:off x="1835280" y="1628640"/>
            <a:ext cx="5329080" cy="3846600"/>
          </a:xfrm>
          <a:prstGeom prst="rect">
            <a:avLst/>
          </a:prstGeom>
          <a:ln w="0">
            <a:noFill/>
          </a:ln>
        </p:spPr>
      </p:pic>
      <p:sp>
        <p:nvSpPr>
          <p:cNvPr id="69" name="AutoShape 10"/>
          <p:cNvSpPr/>
          <p:nvPr/>
        </p:nvSpPr>
        <p:spPr>
          <a:xfrm>
            <a:off x="468360" y="3062160"/>
            <a:ext cx="1332000" cy="337320"/>
          </a:xfrm>
          <a:prstGeom prst="wedgeRectCallout">
            <a:avLst>
              <a:gd name="adj1" fmla="val 72398"/>
              <a:gd name="adj2" fmla="val 17227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Ляв пане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13"/>
          <p:cNvSpPr/>
          <p:nvPr/>
        </p:nvSpPr>
        <p:spPr>
          <a:xfrm>
            <a:off x="7308720" y="3062160"/>
            <a:ext cx="1548000" cy="337320"/>
          </a:xfrm>
          <a:prstGeom prst="wedgeRectCallout">
            <a:avLst>
              <a:gd name="adj1" fmla="val -86708"/>
              <a:gd name="adj2" fmla="val 17942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Десен пане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6"/>
          <p:cNvSpPr/>
          <p:nvPr/>
        </p:nvSpPr>
        <p:spPr>
          <a:xfrm>
            <a:off x="468360" y="5654520"/>
            <a:ext cx="832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Ляв панел –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ъдържа списък с имената на папките и устройствата на диска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7"/>
          <p:cNvSpPr/>
          <p:nvPr/>
        </p:nvSpPr>
        <p:spPr>
          <a:xfrm>
            <a:off x="466560" y="6086520"/>
            <a:ext cx="832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Десен панел –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казва съдържанието на обекта, който сме посочили вляво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19"/>
          <p:cNvSpPr/>
          <p:nvPr/>
        </p:nvSpPr>
        <p:spPr>
          <a:xfrm>
            <a:off x="7380360" y="1622520"/>
            <a:ext cx="1439640" cy="287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Заглавен ре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20"/>
          <p:cNvSpPr/>
          <p:nvPr/>
        </p:nvSpPr>
        <p:spPr>
          <a:xfrm>
            <a:off x="108000" y="1773360"/>
            <a:ext cx="1439640" cy="287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Главно мен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21"/>
          <p:cNvSpPr/>
          <p:nvPr/>
        </p:nvSpPr>
        <p:spPr>
          <a:xfrm>
            <a:off x="181080" y="2192400"/>
            <a:ext cx="1368360" cy="6433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Лента с инструмен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22"/>
          <p:cNvSpPr/>
          <p:nvPr/>
        </p:nvSpPr>
        <p:spPr>
          <a:xfrm flipV="1">
            <a:off x="1547640" y="2349000"/>
            <a:ext cx="28764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23"/>
          <p:cNvSpPr/>
          <p:nvPr/>
        </p:nvSpPr>
        <p:spPr>
          <a:xfrm>
            <a:off x="1547640" y="1916280"/>
            <a:ext cx="28764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24"/>
          <p:cNvSpPr/>
          <p:nvPr/>
        </p:nvSpPr>
        <p:spPr>
          <a:xfrm>
            <a:off x="7380360" y="17668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25"/>
          <p:cNvSpPr/>
          <p:nvPr/>
        </p:nvSpPr>
        <p:spPr>
          <a:xfrm flipH="1">
            <a:off x="7164360" y="1773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835280" y="1628640"/>
            <a:ext cx="5329080" cy="360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835280" y="1989000"/>
            <a:ext cx="5329080" cy="1447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835280" y="2133720"/>
            <a:ext cx="5329080" cy="215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835280" y="2349360"/>
            <a:ext cx="1224000" cy="2735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059280" y="2349360"/>
            <a:ext cx="4105080" cy="2735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0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2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24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2000"/>
                            </p:stCondLst>
                            <p:childTnLst>
                              <p:par>
                                <p:cTn id="2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2000"/>
                            </p:stCondLst>
                            <p:childTnLst>
                              <p:par>
                                <p:cTn id="2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e1e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11280" y="14436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000000"/>
                </a:solidFill>
                <a:latin typeface="Arial"/>
              </a:rPr>
              <a:t>Меню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94920" y="2565360"/>
            <a:ext cx="359892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Изгледи на обектите от десния пане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5003640" y="1628640"/>
            <a:ext cx="3022920" cy="47134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0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8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2000"/>
                            </p:stCondLst>
                            <p:childTnLst>
                              <p:par>
                                <p:cTn id="290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92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2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e1e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000000"/>
                </a:solidFill>
                <a:latin typeface="Arial"/>
              </a:rPr>
              <a:t>Програма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Името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OS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 означава основна входно-изходна систем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Настройва и управлява хардуерните устройства в компютъ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Стартира операционната систем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e1e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000000"/>
                </a:solidFill>
                <a:latin typeface="Arial"/>
              </a:rPr>
              <a:t>Операционна система (ОС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44000" y="1639800"/>
            <a:ext cx="8820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spcAft>
                <a:spcPts val="15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Представлява набор от програми за управление на компютърната система и осъществяване на връзка с потребители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99"/>
              </a:spcBef>
              <a:spcAft>
                <a:spcPts val="15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й-известните операционни системи са: Microsoft DOS, Microsoft Windows, Linux, Mac OS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roi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6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e1e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000000"/>
                </a:solidFill>
                <a:latin typeface="Arial"/>
              </a:rPr>
              <a:t>Основни функции на О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Управление на изпълнението на приложните прогр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Управление на работата на входно-изходните устройст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Управление на работата на централния процесор и паметта на компютъ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3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e1e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000000"/>
                </a:solidFill>
                <a:latin typeface="Arial"/>
              </a:rPr>
              <a:t>Интерфей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Средстват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необходими за обмен на информация както между различните устройства, така и между устройства и потребите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Потребителски интерфейс – програмните средств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с помощта на които потребителят общува с компютърната систем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Видове потребителски интерфейс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буквено-цифр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графиче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5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2000"/>
                            </p:stCondLst>
                            <p:childTnLst>
                              <p:par>
                                <p:cTn id="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4000"/>
                            </p:stCondLst>
                            <p:childTnLst>
                              <p:par>
                                <p:cTn id="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6000"/>
                            </p:stCondLst>
                            <p:childTnLst>
                              <p:par>
                                <p:cTn id="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8000"/>
                            </p:stCondLst>
                            <p:childTnLst>
                              <p:par>
                                <p:cTn id="89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1" dur="20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0000"/>
                            </p:stCondLst>
                            <p:childTnLst>
                              <p:par>
                                <p:cTn id="93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5" dur="20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e1e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000000"/>
                </a:solidFill>
                <a:latin typeface="Arial"/>
              </a:rPr>
              <a:t>Буквено-цифров интерфейс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мандите 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се задават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 ОС 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кат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последователност от символи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въведени от клавиатурата, завършващи с натискане на клавиша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"/>
          <p:cNvPicPr/>
          <p:nvPr/>
        </p:nvPicPr>
        <p:blipFill>
          <a:blip r:embed="rId1"/>
          <a:stretch/>
        </p:blipFill>
        <p:spPr>
          <a:xfrm>
            <a:off x="395280" y="2924280"/>
            <a:ext cx="8532720" cy="3477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med">
    <p:zoom dir="in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2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6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e1e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000000"/>
                </a:solidFill>
                <a:latin typeface="Arial"/>
              </a:rPr>
              <a:t>Графичен интерфей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ждат 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се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злични изображения (икони, прозорци, менюта, бутони)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Имаме достъп до всички обекти на екра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Необходимите действия се осъществяват с помощта на мишката и клавиатура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8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e1e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Файлова организация на даннит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e1e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000000"/>
                </a:solidFill>
                <a:latin typeface="Arial"/>
              </a:rPr>
              <a:t>Файл (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le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омпютър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ът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запазва и обработва различни видове данни, оформени в документи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Всеки документ се съхранява във фай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секи файл има собствено име, което се състои от две част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ме, което се задава от потребител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азширение, което показва какъв е вид</a:t>
            </a: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ъ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на съхраняваната информа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пример 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ormatika.docx, sofia.jp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7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5T11:44:41Z</dcterms:created>
  <dc:creator>gis2</dc:creator>
  <dc:description/>
  <dc:language>en-US</dc:language>
  <cp:lastModifiedBy>gis2</cp:lastModifiedBy>
  <dcterms:modified xsi:type="dcterms:W3CDTF">2014-07-01T10:55:01Z</dcterms:modified>
  <cp:revision>23</cp:revision>
  <dc:subject/>
  <dc:title>Операционна система</dc:title>
</cp:coreProperties>
</file>